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271-7279-46B0-963E-DBE1D4BD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AF5-ECB2-46BD-93C7-1F25A74F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EBD-9CF5-45D3-B412-2D467950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952-904A-4CA0-89B4-C3416094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002-AC4C-4A66-B4BD-E5090DF3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865-448D-462C-B51C-17F3D0C7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EE7-5226-4EC1-B42E-BFD1D004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BCA-D07C-4A45-8AFB-EB56F4AD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383-653E-4F5A-9DD7-35C6B224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A25-D86E-4068-B074-E90B94B4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C9A-8E71-44AD-A9A1-02E8453A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0D6-1AAF-4B7B-AB57-9F293B9B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05E3-B1D3-4DEB-AC12-C35EC7DC8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74;&#1077;&#1090;&#1086;&#1082;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цветковых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собенности цветкового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ветко́вые расте́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ры́тосеменны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личительной особенностью которых является наличие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цветк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и п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le:Magnolia.jpg"/>
          <p:cNvPicPr/>
          <p:nvPr/>
        </p:nvPicPr>
        <p:blipFill>
          <a:blip r:embed="rId2"/>
          <a:stretch/>
        </p:blipFill>
        <p:spPr>
          <a:xfrm>
            <a:off x="0" y="3716280"/>
            <a:ext cx="276876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&amp;Gcy;&amp;rcy;&amp;ocy;&amp;zcy;&amp;dcy;&amp;softcy; &amp;yacy;&amp;bcy;&amp;lcy;&amp;ocy;&amp;kcy;"/>
          <p:cNvPicPr/>
          <p:nvPr/>
        </p:nvPicPr>
        <p:blipFill>
          <a:blip r:embed="rId3"/>
          <a:stretch/>
        </p:blipFill>
        <p:spPr>
          <a:xfrm>
            <a:off x="5940360" y="3645000"/>
            <a:ext cx="29955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ы цветкового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бег-это стебель с листьями и поч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&amp;Vcy;&amp;iecy;&amp;gcy;&amp;iecy;&amp;tcy;&amp;acy;&amp;tcy;&amp;icy;&amp;vcy;&amp;ncy;&amp;ycy;&amp;iecy; &amp;ocy;&amp;rcy;&amp;gcy;&amp;acy;&amp;ncy;&amp;ycy; &amp;vcy;&amp;ycy;&amp;scy;&amp;shcy;&amp;icy;&amp;khcy; &amp;rcy;&amp;acy;&amp;scy;&amp;tcy;&amp;iecy;&amp;ncy;&amp;icy;&amp;jcy;"/>
          <p:cNvPicPr/>
          <p:nvPr/>
        </p:nvPicPr>
        <p:blipFill>
          <a:blip r:embed="rId1"/>
          <a:stretch/>
        </p:blipFill>
        <p:spPr>
          <a:xfrm>
            <a:off x="3492360" y="2400480"/>
            <a:ext cx="39340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цв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разных растений цветы  разнообраз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размер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ым особенностя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428652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P1010801a.JPG"/>
          <p:cNvPicPr/>
          <p:nvPr/>
        </p:nvPicPr>
        <p:blipFill>
          <a:blip r:embed="rId2"/>
          <a:stretch/>
        </p:blipFill>
        <p:spPr>
          <a:xfrm>
            <a:off x="6300720" y="1341360"/>
            <a:ext cx="2843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ветки одиночные и собранные в соцвет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&amp;Scy;&amp;iecy;&amp;mcy;&amp;iecy;&amp;jcy;&amp;scy;&amp;tcy;&amp;vcy;&amp;ocy; &amp;mcy;&amp;ocy;&amp;lcy;&amp;ocy;&amp;chcy;&amp;acy;&amp;jcy;&amp;ncy;&amp;ycy;&amp;khcy;"/>
          <p:cNvPicPr/>
          <p:nvPr/>
        </p:nvPicPr>
        <p:blipFill>
          <a:blip r:embed="rId1"/>
          <a:stretch/>
        </p:blipFill>
        <p:spPr>
          <a:xfrm>
            <a:off x="395280" y="1413000"/>
            <a:ext cx="3240000" cy="31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&amp;rcy;&amp;iecy;&amp;dcy;&amp;kcy;&amp;icy;&amp;iecy; &amp;rcy;&amp;acy;&amp;scy;&amp;tcy;&amp;iecy;&amp;ncy;&amp;icy;&amp;yacy; &amp;Rcy;&amp;ocy;&amp;scy;&amp;scy;&amp;icy;&amp;icy;"/>
          <p:cNvPicPr/>
          <p:nvPr/>
        </p:nvPicPr>
        <p:blipFill>
          <a:blip r:embed="rId2"/>
          <a:stretch/>
        </p:blipFill>
        <p:spPr>
          <a:xfrm>
            <a:off x="468360" y="3429000"/>
            <a:ext cx="3043080" cy="295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&amp;Rcy;&amp;ocy;&amp;mcy;&amp;acy;&amp;shcy;&amp;kcy;&amp;acy; &amp;acy;&amp;pcy;&amp;tcy;&amp;iecy;&amp;chcy;&amp;ncy;&amp;acy;&amp;yacy;"/>
          <p:cNvPicPr/>
          <p:nvPr/>
        </p:nvPicPr>
        <p:blipFill>
          <a:blip r:embed="rId3"/>
          <a:stretch/>
        </p:blipFill>
        <p:spPr>
          <a:xfrm>
            <a:off x="3348000" y="2565360"/>
            <a:ext cx="2592360" cy="266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&amp;Scy;&amp;ocy;&amp;tscy;&amp;vcy;&amp;iecy;&amp;tcy;&amp;icy;&amp;yacy;-&amp;shcy;&amp;acy;&amp;rcy;&amp;ycy;"/>
          <p:cNvPicPr/>
          <p:nvPr/>
        </p:nvPicPr>
        <p:blipFill>
          <a:blip r:embed="rId4"/>
          <a:stretch/>
        </p:blipFill>
        <p:spPr>
          <a:xfrm>
            <a:off x="6037200" y="1773360"/>
            <a:ext cx="3106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о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520" y="1773360"/>
            <a:ext cx="3990960" cy="3987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500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умайт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ем отличаются цветковые растения от всех осталь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Зачем растению  нужен цве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Из чего образуется пл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07:08:26Z</dcterms:created>
  <dc:creator>user</dc:creator>
  <dc:description/>
  <dc:language>en-US</dc:language>
  <cp:lastModifiedBy>user</cp:lastModifiedBy>
  <dcterms:modified xsi:type="dcterms:W3CDTF">2013-05-06T09:38:13Z</dcterms:modified>
  <cp:revision>6</cp:revision>
  <dc:subject/>
  <dc:title>Строение цветковых растений</dc:title>
</cp:coreProperties>
</file>